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3083-1E35-462B-9AF0-0CD92C566C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EB06-6F6E-444D-8663-D028BF82E8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680" y="3240"/>
            <a:ext cx="1128420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Z ELSŐ SZINTŰ ELLENŐRZÉS ALAPJAI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Magyarország-Szlovákia Határon Átnyúló Együttműködés Programba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534960" y="4216320"/>
            <a:ext cx="11315520" cy="2160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Gordos Már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70840" y="471600"/>
            <a:ext cx="38894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3400" y="2199960"/>
            <a:ext cx="9617040" cy="3476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lanya: projekt partner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Dokumentum alap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partneri jelentés + számlák + alátámasztó dokument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Helyszíni ellenőrzé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a projekt élettartama során legalább egyszer (de kockázat-elemzés alapján lehetséges többször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Eredménye: hitelesítési nyilatkozat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Időkorlát: 45 nap = jelentés ellenőrzése + max. 2 hiánypótlá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 jelentés benyújtásának NEM előfeltétele a társfinanszírozási szerződés aláírása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Jelentéstét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38080" y="1676520"/>
            <a:ext cx="9617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lső szintű ellenőrzé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Másodszintű ellenőrzé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gyéb ellenőrzések (ÁSZ, NH, EU Bizottság, stb.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LENŐRZÉSE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94840" y="1984320"/>
            <a:ext cx="130320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89760" y="4505400"/>
            <a:ext cx="180036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9400" y="4287960"/>
            <a:ext cx="2495520" cy="29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42120" y="1479600"/>
            <a:ext cx="1944360" cy="179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697040" y="5153040"/>
            <a:ext cx="1790640" cy="16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9400" y="3063600"/>
            <a:ext cx="9617040" cy="81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800" spc="-1" strike="noStrike">
                <a:solidFill>
                  <a:srgbClr val="008080"/>
                </a:solidFill>
                <a:latin typeface="Calibri"/>
              </a:rPr>
              <a:t>Köszönöm megtisztelő figyelmüket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57360" y="1598760"/>
            <a:ext cx="6400800" cy="48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15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040" y="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EREPLŐ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905040"/>
            <a:ext cx="4895640" cy="58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FUNKCIÓ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rányító Hatóság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(Managing Authority)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/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Technikai Titkárság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6666"/>
                </a:solidFill>
                <a:latin typeface="Calibri"/>
              </a:rPr>
              <a:t>Joint Technical Secretariat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– JT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szerződé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vezető partnerrel a teljes projektre vonatkozó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rojekt szintű jelentések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forr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utófinanszírozás, VP felé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3333cc"/>
                </a:solidFill>
                <a:latin typeface="Calibri"/>
              </a:rPr>
              <a:t>LEAD PARTNER / VEZETŐ 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5040" y="905040"/>
            <a:ext cx="4896000" cy="587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NEMZETI FUNK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Hitelesítésre kijelölt szervezet</a:t>
            </a: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(First Level Control Body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VÁTI Nonprofit </a:t>
            </a: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Kf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társfinanszírozási szerződés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hazai partnerekk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artneri jelentések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hazai társfinanszíroz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100% előleg, hazai partner felé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>
                <a:solidFill>
                  <a:srgbClr val="3333cc"/>
                </a:solidFill>
                <a:latin typeface="Calibri"/>
              </a:rPr>
              <a:t>PROJECT PARTNER / PROJEKT PART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7040" y="183960"/>
            <a:ext cx="1078560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OLYAMATO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4895640" cy="530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HAZAI PARTN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ARTNERI JELENTÉS, </a:t>
            </a:r>
            <a:r>
              <a:rPr b="1" lang="hu-HU" sz="2400" spc="-1" strike="noStrike">
                <a:solidFill>
                  <a:srgbClr val="00cc99"/>
                </a:solidFill>
                <a:latin typeface="Calibri"/>
              </a:rPr>
              <a:t>HIÁNYPÓTLÁS(O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HITELESÍTÉS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NYILATKOZ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FLC (VÁT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5400" y="1984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664400">
            <a:off x="3850560" y="1839600"/>
            <a:ext cx="1368360" cy="439272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768600 h 4392720"/>
              <a:gd name="textAreaBottom" fmla="*/ 318492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3760" y="1479600"/>
            <a:ext cx="4896000" cy="530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ROJEKT SZINT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JELENTÉS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IÁNYPÓTLÁS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ERFA KIFI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2840" y="2055960"/>
            <a:ext cx="1368360" cy="4679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79640"/>
              <a:gd name="textAreaBottom" fmla="*/ 3393000 h 46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186480" y="1768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400" y="1479600"/>
            <a:ext cx="2016000" cy="28872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578480" y="1983960"/>
            <a:ext cx="2016000" cy="28908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600" spc="-1" strike="noStrike">
                <a:solidFill>
                  <a:srgbClr val="008080"/>
                </a:solidFill>
                <a:latin typeface="Calibri"/>
              </a:rPr>
              <a:t>A vezető partner (Lead Partner) kettős szere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73040" y="1768320"/>
            <a:ext cx="1295640" cy="79236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9280" y="1786320"/>
            <a:ext cx="1272960" cy="828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2847960"/>
            <a:ext cx="35290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HAZAI PARTN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Arial"/>
              </a:rPr>
              <a:t>FLC (VÁT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3568680"/>
            <a:ext cx="431640" cy="1152720"/>
          </a:xfrm>
          <a:prstGeom prst="upDownArrow">
            <a:avLst>
              <a:gd name="adj1" fmla="val 50000"/>
              <a:gd name="adj2" fmla="val 53164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8480" y="2921040"/>
            <a:ext cx="3168720" cy="26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45400" y="3568680"/>
            <a:ext cx="433440" cy="1224000"/>
          </a:xfrm>
          <a:prstGeom prst="upDownArrow">
            <a:avLst>
              <a:gd name="adj1" fmla="val 50000"/>
              <a:gd name="adj2" fmla="val 5621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RFA KIFIZETÉS IDŐIGÉNY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3400" y="1479600"/>
          <a:ext cx="9628200" cy="5208480"/>
        </p:xfrm>
        <a:graphic>
          <a:graphicData uri="http://schemas.openxmlformats.org/drawingml/2006/table">
            <a:tbl>
              <a:tblPr/>
              <a:tblGrid>
                <a:gridCol w="4815000"/>
                <a:gridCol w="1954080"/>
                <a:gridCol w="2859120"/>
              </a:tblGrid>
              <a:tr h="460440"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Lépése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Összesen 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jelentéstételi időszak vé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artneri jelentés benyújtása a VÁTI felé (P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1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hitelesítési nyilatkozat továbbítása 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2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továbbítása a JTS felé (V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jóváhagyá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5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ERFA utalás elindítás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" y="1768320"/>
            <a:ext cx="10080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49/2007. (III.26.) Korm. rendelet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és az Európai Szomszédsági és Partnerségi Eszköz pénzügyi alapok egyes, a területi együttműködéshez kapcsolódó programjaiból származó támogatások hazai felhasználásának intézményeiről</a:t>
            </a:r>
            <a:r>
              <a:rPr b="1" i="1" lang="hu-HU" sz="20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– 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kijelölő rendelet”</a:t>
            </a: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 VÁTI, mint hitelesítésre kijelölt szervezet Kormányrendelet :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„az 1080/2006/EK rendelet 16. cikkében foglalt feladat ellátásával megbízott szerv: a VÁTI Magyar Regionális Fejlesztési és Urbanisztikai Közhasznú Társaság (a továbbiakban: VÁTI Kht.)”</a:t>
            </a: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 (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3. b))</a:t>
            </a: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160/2009. (VIII.3.) Korm. rendelet 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pénzügyi alapok egyes, a területi együttműködéshez kapcsolódó programjainak végrehajtásár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lebonyolítási rendel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160/2009. (VIII.3.) Korm. rendelet IV. fejezet: A hazai szintű lebonyolítás részletes szabályai – ezen belül: Hitelesítés (20-22. pont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20. §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 A programok keretében megítélt közösségi támogatások és a hazai társfinanszírozás felhasználásának hitelesítése </a:t>
            </a: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a hitelesítési tevékenységre jogszabály által kijelölt szervezet feladata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21. §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(1) A hitelesítés részeként a hitelesítési tevékenységre kijelölt szervezetnek gondoskodnia kell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a hazai partner által benyújtott valamennyi, a felmerült és a partner által kifizetett költséget alátámasztó dokumentum formai és tartalmi ellenőrzésének lefolytatásáról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2) A dokumentum alapú ellenőrzés keretében különösen a következőket kell ellenőrizni: (a) – 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A hitelesítés részeként a hitelesítési tevékenységre kijelölt szervezet köteles gondoskodni a közbeszerzésekről szóló 2003. évi CXXIX. törvény (a továbbiakban: Kbt.) és a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közbeszerzésekre vonatkozó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közösségi rendelkezések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előírásai teljesülésének ellenőrzésé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5) A hitelesítés részeként a hitelesítési tevékenységre kijelölt szervezetnek gondoskodnia kell a projektrészek megvalósításának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 helyszíni ellenőrzésé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44680" y="1336320"/>
            <a:ext cx="10153440" cy="5445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a) a hazai partner által benyújtott jelentésben szereplő 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költségek kifizetésre kerültek és számlákkal vagy egyéb, a gazdasági eseményt hitelesen dokumentál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bizonylattal megfelelően alátámasztotta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b) a benyújtott számlák vagy egyéb, a gazdasági eseményt hitelesen dokumentáló bizonylato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valós költségeken alapulna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, és a programok keretében jóváhagyott projekt kapcsán merültek f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c) a benyújtott számlán vagy egyéb, a gazdasági eseményt hitelesen dokumentáló bizonylaton szereplő teljesítés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összhangban van a pályázatra vonatkozó döntéssel és a támogatási szerződéss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d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 költségek elszámolható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a programok keretében meghatározott elszámolhatósági szabályoknak megfelelően, a közösségi és hazai jogszabályokkal összhangba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e) a költségeket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látámasztó dokumentumo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teljes körűek, formai és tartalmi szempontból megfelelőe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f) a hazai partner az összes projekttevékenységre vonatkozóan megfelelő és megbízhat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tartási rendszerr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rendelkezik, azaz a szükséges ellenőrzési nyomvonal létezik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g) az Alapokból származó támogatás, illetve a hazai társfinanszírozás felhasználása során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em történt szabálytalanság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h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ettős finanszírozás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nem valósul meg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i) a benyújtott bizonylatok, dokumentumok alapján megállapítható, hogy az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állami támogatásokkal, a környezetvédelemmel, az esélyegyenlőséggel és a fenntartható fejlődéssel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kapcsolatos követelményeke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j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osságra és tájékoztatásra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k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özbeszerzésekre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közösségi és nemzeti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l) a projekte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ámogatási szerződéseknek megfelelő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fizikai és pénzügyi előrehalad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m)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eljesítés igazol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9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7:07:10Z</dcterms:modified>
  <cp:revision>190</cp:revision>
  <dc:subject/>
  <dc:title>1. dia</dc:title>
</cp:coreProperties>
</file>